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5BA-D93F-4BDC-9BB2-C64B4736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55D-4E31-4EB1-9A73-D8C7D1C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4A0-B193-44F5-9544-819CC560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AD9-A2E4-4947-80F0-D5925714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B57-05C5-4F88-B434-773A4C4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2A1-1AAB-41ED-8890-8228E78F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6CC-A6DE-4049-A057-36914BD5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1F6-C8D7-44E2-98E1-6018B66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304-3E8C-46E8-B9F2-B90B8A5E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4EE-3085-4E60-ACC2-40F4640B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094-F539-439F-BB39-2EF4E8F3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B61-2085-4BAF-A4E2-7AD18252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820F-1957-4BF4-AA72-243F704F1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380880"/>
            <a:ext cx="6172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66ff"/>
                </a:solidFill>
                <a:uFillTx/>
                <a:latin typeface="Arial"/>
              </a:rPr>
              <a:t>Standard di efficientamento regionale per l’anno 202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varianza della spesa farmaceutica Convenzionata + DPC rispetto al 20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8076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[…] la Regione Piemonte intende promuovere l’appropriatezza prescrittiva e la riduzione della variabilità prescrittiva intraregionale e rispetto alla media nazionale al fine di un progressivo allineamento al tetto di spesa previsto […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l documento di “Programmazione delle Risorse del SSR anno 2025-2027” individua le specifiche aree di interv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81000" y="3171960"/>
            <a:ext cx="69436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3189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fezionamenti “</a:t>
            </a:r>
            <a:r>
              <a:rPr b="1" i="1" lang="it-IT" sz="1800" spc="-1" strike="noStrike">
                <a:solidFill>
                  <a:srgbClr val="0066ff"/>
                </a:solidFill>
                <a:latin typeface="Arial"/>
              </a:rPr>
              <a:t>cost-saving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819520"/>
            <a:ext cx="44197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ociazioni d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con ezetimi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Rosuvastatina + ASA o Amlodipina o Rami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Atorvastatina + Amlodipina + Ramipril o Perindopr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ociazioni d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E-i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+ Ca-antagonisti (+ diuret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ociazioni d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artan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+ Ca-antagonisti (+ diuret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144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° d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nità posologich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/ confe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990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954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495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952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410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62520" y="895320"/>
            <a:ext cx="4943520" cy="2381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5257800"/>
            <a:ext cx="777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liptin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+ metfor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715000"/>
            <a:ext cx="777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lecalciferol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flaconcino 10.000UI/ml 10ml (per la somministrazione giornaliera), 4 cps molli da 25.000UI o 5 cps molli da 20.000UI (per la somministrazione settimanale o mensi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867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8600"/>
            <a:ext cx="7086600" cy="53352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00200" y="3189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fezionamenti “</a:t>
            </a:r>
            <a:r>
              <a:rPr b="1" i="1" lang="it-IT" sz="1800" spc="-1" strike="noStrike">
                <a:solidFill>
                  <a:srgbClr val="0066ff"/>
                </a:solidFill>
                <a:latin typeface="Arial"/>
              </a:rPr>
              <a:t>cost-saving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838080"/>
            <a:ext cx="777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evotiroxina sodica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resse vs soluzione o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90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60020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Ricorso alle cpr vs soluzioni oral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- ASL CN2: cpr 6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- Regione Piemonte: 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64000" y="990720"/>
            <a:ext cx="2560680" cy="230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29000" y="3962520"/>
            <a:ext cx="3809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OAC (dabigatran e rivaroxab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liptine (vildagliptin, sitaglipt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apentad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46483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343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0384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581280"/>
            <a:ext cx="7086600" cy="137160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5812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armaci a brevetto scadu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5800" y="5181480"/>
            <a:ext cx="8001000" cy="1447560"/>
            <a:chOff x="685800" y="5181480"/>
            <a:chExt cx="8001000" cy="1447560"/>
          </a:xfrm>
        </p:grpSpPr>
        <p:sp>
          <p:nvSpPr>
            <p:cNvPr id="69" name=""/>
            <p:cNvSpPr/>
            <p:nvPr/>
          </p:nvSpPr>
          <p:spPr>
            <a:xfrm>
              <a:off x="2819520" y="5867280"/>
              <a:ext cx="41907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farmaci off-label (in particolare per malattia rar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farmaci rimborsabili secondo la L. 648/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38280" y="624816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8280" y="594324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53337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Utilizzo del corretto canale distributivo (distribuzione diretta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6680" y="5181480"/>
              <a:ext cx="7086600" cy="1447560"/>
            </a:xfrm>
            <a:prstGeom prst="rect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143000" y="228600"/>
            <a:ext cx="7086600" cy="53352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914400" y="3733920"/>
            <a:ext cx="7162560" cy="609480"/>
            <a:chOff x="914400" y="3733920"/>
            <a:chExt cx="7162560" cy="609480"/>
          </a:xfrm>
        </p:grpSpPr>
        <p:sp>
          <p:nvSpPr>
            <p:cNvPr id="76" name=""/>
            <p:cNvSpPr/>
            <p:nvPr/>
          </p:nvSpPr>
          <p:spPr>
            <a:xfrm>
              <a:off x="914400" y="3733920"/>
              <a:ext cx="7162560" cy="609480"/>
            </a:xfrm>
            <a:prstGeom prst="rect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22560" y="3733920"/>
              <a:ext cx="654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Monitoraggio sull’attuazione dei P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066680" y="533412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duzione del ≥20% del rapporto tra il consumo (DDD/1000 ab die) di molecole ad ampio spettro e di molecole a spettro ristretto (Fonte ESAC) in ambito territoriale rispetto al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800600"/>
            <a:ext cx="7162920" cy="1371600"/>
          </a:xfrm>
          <a:prstGeom prst="rect">
            <a:avLst/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876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ntrasto all’antimicrobicoresis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2120" y="2819520"/>
            <a:ext cx="7238520" cy="457200"/>
            <a:chOff x="762120" y="2819520"/>
            <a:chExt cx="7238520" cy="457200"/>
          </a:xfrm>
        </p:grpSpPr>
        <p:sp>
          <p:nvSpPr>
            <p:cNvPr id="82" name=""/>
            <p:cNvSpPr/>
            <p:nvPr/>
          </p:nvSpPr>
          <p:spPr>
            <a:xfrm>
              <a:off x="762120" y="2895840"/>
              <a:ext cx="723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Verifica della correttezza dei Piani Terapeuti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800" y="2819520"/>
              <a:ext cx="7161840" cy="457200"/>
            </a:xfrm>
            <a:prstGeom prst="rect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838080" y="457200"/>
            <a:ext cx="7391520" cy="1905120"/>
            <a:chOff x="838080" y="457200"/>
            <a:chExt cx="7391520" cy="1905120"/>
          </a:xfrm>
        </p:grpSpPr>
        <p:sp>
          <p:nvSpPr>
            <p:cNvPr id="85" name=""/>
            <p:cNvSpPr/>
            <p:nvPr/>
          </p:nvSpPr>
          <p:spPr>
            <a:xfrm>
              <a:off x="838080" y="1219320"/>
              <a:ext cx="7391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Confronto del costo medio relativo alla farmaceutica per classi di pazienti cronici (con almeno 2 patologie) e/o over 65 anni tra le ASL al fine di valutare il rischio di inappropriatezza prescrittiva e focus su pazienti con età &gt;80 anni in terapia con più di 10 farmaci al fine di evitare un rischio di assunzioni errate e interazioni farmacologich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45720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Uniformità nella spesa farmaceutica procapite in pazienti cronici/fragi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457200"/>
              <a:ext cx="7162920" cy="1905120"/>
            </a:xfrm>
            <a:prstGeom prst="rect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4T09:10:33Z</dcterms:created>
  <dc:creator>Recalenda Valeria</dc:creator>
  <dc:description/>
  <dc:language>en-US</dc:language>
  <cp:lastModifiedBy>user</cp:lastModifiedBy>
  <dcterms:modified xsi:type="dcterms:W3CDTF">2025-03-24T16:52:2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